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Alteon AceView Product Lines</a:t>
            </a:r>
            <a:fld id="{91FB034C-25DF-46BA-8E91-C3432B2AED83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03440" y="6477120"/>
            <a:ext cx="236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99"/>
                </a:solidFill>
                <a:latin typeface="Arial"/>
              </a:rPr>
              <a:t>Alteon WebSystems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5334120" cy="189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76000" y="3957480"/>
            <a:ext cx="62960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lteon AceView EM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76000" y="4770360"/>
            <a:ext cx="500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4645440"/>
            <a:ext cx="629604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0" bIns="0" anchor="b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Janet Du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du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56088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Management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witch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3071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Featur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Management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witch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EMS_1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6386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3071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Featur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MP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MS_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4527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EMS_3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4305240" cy="1469880"/>
          </a:xfrm>
          <a:prstGeom prst="rect">
            <a:avLst/>
          </a:prstGeom>
          <a:ln w="0">
            <a:noFill/>
          </a:ln>
        </p:spPr>
      </p:pic>
      <p:pic>
        <p:nvPicPr>
          <p:cNvPr id="98" name="EMS_4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426708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3071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Featur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Statistic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ceViewGraph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219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Schedules &amp; Mileston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 – Korea Tele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a –  November 20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S –  January 15, 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9:15:27Z</dcterms:created>
  <dc:creator>Pankaj Manglik</dc:creator>
  <dc:description/>
  <dc:language>en-US</dc:language>
  <cp:lastModifiedBy>IT-Laptop</cp:lastModifiedBy>
  <cp:lastPrinted>2000-04-05T23:31:08Z</cp:lastPrinted>
  <dcterms:modified xsi:type="dcterms:W3CDTF">2000-11-29T18:55:44Z</dcterms:modified>
  <cp:revision>163</cp:revision>
  <dc:subject/>
  <dc:title>GPP Jan 10th to E-Staff  Pankaj Manglik</dc:title>
</cp:coreProperties>
</file>